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cashreg.wav" ContentType="audio/x-wav"/>
  <Override PartName="/ppt/media/image9.wmf" ContentType="image/x-wmf"/>
  <Override PartName="/ppt/media/image5.jpeg" ContentType="image/jpeg"/>
  <Override PartName="/ppt/media/image4.png" ContentType="image/png"/>
  <Override PartName="/ppt/media/image12.wmf" ContentType="image/x-wmf"/>
  <Override PartName="/ppt/media/image3.wmf" ContentType="image/x-wmf"/>
  <Override PartName="/ppt/media/image7.wmf" ContentType="image/x-wmf"/>
  <Override PartName="/ppt/media/image14.wmf" ContentType="image/x-wmf"/>
  <Override PartName="/ppt/media/camera.wav" ContentType="audio/x-wav"/>
  <Override PartName="/ppt/media/explode.wav" ContentType="audio/x-wav"/>
  <Override PartName="/ppt/media/image10.wmf" ContentType="image/x-wmf"/>
  <Override PartName="/ppt/media/image11.wmf" ContentType="image/x-wmf"/>
  <Override PartName="/ppt/media/type.wav" ContentType="audio/x-wav"/>
  <Override PartName="/ppt/media/image1.wmf" ContentType="image/x-wmf"/>
  <Override PartName="/ppt/media/image2.gif" ContentType="image/gif"/>
  <Override PartName="/ppt/media/whoosh.wav" ContentType="audio/x-wav"/>
  <Override PartName="/ppt/media/image13.wmf" ContentType="image/x-wmf"/>
  <Override PartName="/ppt/media/wind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131-C100-42DE-A4E8-E20582BB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2F0-1663-4751-AA95-0AE68175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A18-12D2-4A94-B1A8-5A4BD49F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755-388D-4FD8-94A9-B949A805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07B-53B6-48E1-B5F0-68CE1241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384-C1C0-407C-AD0B-910ED17D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457-EA2B-4923-901A-944729BA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E27-EAA8-4136-94C4-CB65AE6B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F58-7316-41E0-A443-759A92D9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E3F-E88D-4092-AEC1-3714159C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636-C0DE-48B4-B592-200941C5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E79-553E-48B6-A6D5-2B527B05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843C09-B577-475C-A50E-90DD007348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hick"/>
              </a:rPr>
              <a:t>All about 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hick"/>
              </a:rPr>
              <a:t>McKen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hick"/>
              </a:rPr>
              <a:t>P3-#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4724280"/>
            <a:ext cx="213336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ver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lba Super"/>
              </a:rPr>
              <a:t>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Brad            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Joann         M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Bowe        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Ashley     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Kaleb        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McKkenzie   m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Camrem    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276720" cy="266724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  <p:sndAc>
      <p:stSnd>
        <p:snd r:embed="rId2" name="wind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ystoid"/>
              </a:rPr>
              <a:t>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C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Mck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Hay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Kayl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629400" y="1447920"/>
            <a:ext cx="1725480" cy="2408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192564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3"/>
    <p:sndAc>
      <p:stSnd>
        <p:snd r:embed="rId4" name="explode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aby Kruffy"/>
              </a:rPr>
              <a:t>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Dog          Ma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Bird         Sp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Lizard     bl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82592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95280" y="2666880"/>
            <a:ext cx="175284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47920" y="426708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66680" y="5029200"/>
            <a:ext cx="1968480" cy="1644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8"/>
    <p:sndAc>
      <p:stSnd>
        <p:snd r:embed="rId5" name="type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Earwig Factory"/>
              </a:rPr>
              <a:t>Food I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arwig Factory"/>
              </a:rPr>
              <a:t>Pi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arwig Factory"/>
              </a:rPr>
              <a:t>Sea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arwig Factory"/>
              </a:rPr>
              <a:t>Panc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43864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2"/>
    <p:sndAc>
      <p:stSnd>
        <p:snd r:embed="rId2" name="whoosh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aby Kruffy"/>
              </a:rPr>
              <a:t>Food I don’t lik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ost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osty"/>
              </a:rPr>
              <a:t>Carr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ost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osty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ost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osty"/>
              </a:rPr>
              <a:t>Spin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ost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osty"/>
              </a:rPr>
              <a:t>Hambur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ost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osty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/>
    <p:sndAc>
      <p:stSnd>
        <p:snd r:embed="rId2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rosty"/>
              </a:rPr>
              <a:t>Places I want to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Ala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by Kruffy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aby Kruffy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6200000">
            <a:off x="5408640" y="213336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plus/>
    <p:sndAc>
      <p:stSnd>
        <p:snd r:embed="rId2" name="cashreg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Earwig Factory"/>
              </a:rPr>
              <a:t>Things I 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Good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Gymna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hi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hick"/>
              </a:rPr>
              <a:t>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582720" cy="342612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/>
    <p:sndAc>
      <p:stSnd>
        <p:snd r:embed="rId2" name="applause.wav"/>
      </p:stSnd>
    </p:sndAc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MAX0991</dc:creator>
  <dc:description/>
  <dc:language>en-US</dc:language>
  <cp:lastModifiedBy>MMAX0991</cp:lastModifiedBy>
  <cp:revision>0</cp:revision>
  <dc:subject/>
  <dc:title>All about me!!!</dc:title>
</cp:coreProperties>
</file>